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F88-E9C2-4219-9206-B3AB34AA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09F-B51D-4497-BB5B-1A36D7DB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4D0-F1C2-46C6-B474-4D6229F1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B3A-7D19-471B-860B-A239B5EF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B79-FD61-4CC0-95C7-DE0739A5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6CD-CC6D-4738-88B1-40F8DAB0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B99-D538-43B6-96F2-FF947850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668-3356-4ED4-969E-24FB7598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B044-6DA6-42CF-BE1A-CCC1F003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E9F-48AA-4175-BB47-5D6D79F8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3D66-34D6-4461-BED6-C74B913C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172-9DD1-4DE8-81E9-BDC5486C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1622-B27B-472C-87D4-91D3040E7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5-08-24T16:22:30Z</dcterms:modified>
  <cp:revision>8</cp:revision>
  <dc:subject/>
  <dc:title>PowerPoint Presentation</dc:title>
</cp:coreProperties>
</file>